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7AD-133C-4645-9CD6-81E53AB1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8FF-13D6-4FEA-A002-B0D8C824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948-DD79-43FC-A50B-424AAF5D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AF60-1DB7-4A14-A921-BD1B86F6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D083D-5E20-477E-ABB8-07F0E472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B6621-27C8-43AF-8A70-41EC91D2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93E33-BC5D-4466-A5FE-010A0358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2D451-23C3-47BF-9653-119B749F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7ED18-1C1E-4967-81DD-60009B01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47B12-EA6D-4DA6-BF92-B8137A3D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12DEC-3140-4A79-AFA6-47ADA569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3BA-2F47-4259-AFCB-639036DE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404E6-1316-4893-B72D-5A3231F4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495A0-9661-43AA-A244-BD47CD27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54D0E-2B78-4A77-A372-B174C288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917B8-5333-46CE-9A97-B31AD19F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C1236-F371-4854-90C2-7CE573C0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963-3322-4CF2-89B7-7D15C6F8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078-0E72-4BAE-8EB2-92D5718D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F3D-7952-4471-8CB5-01AF28EF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319-77E7-4233-AD98-1D25A4E8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AFB-413B-4CFF-BD09-0AF48F6E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630-1015-4DCA-9BD8-FAB19C24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3C7-8122-4E95-A2EE-AD204F01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58BD-3E26-4F86-B362-78AB20B1B6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00A7-8678-4B37-8C23-949735B5CF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90;&#1077;&#1089;&#1090;%20&#1082;%20&#1090;&#1077;&#1084;&#1077;.ppt" TargetMode="Externa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4000" y="2349000"/>
            <a:ext cx="8820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ченик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мерн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шё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гол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400800" cy="1076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Убери лишне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Рисунок1ае"/>
          <p:cNvPicPr/>
          <p:nvPr/>
        </p:nvPicPr>
        <p:blipFill>
          <a:blip r:embed="rId1"/>
          <a:stretch/>
        </p:blipFill>
        <p:spPr>
          <a:xfrm>
            <a:off x="4427640" y="2708280"/>
            <a:ext cx="4413240" cy="35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Рисунок1"/>
          <p:cNvPicPr/>
          <p:nvPr/>
        </p:nvPicPr>
        <p:blipFill>
          <a:blip r:embed="rId1"/>
          <a:stretch/>
        </p:blipFill>
        <p:spPr>
          <a:xfrm>
            <a:off x="1619280" y="2205000"/>
            <a:ext cx="6048360" cy="4464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Тема урока: 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«ВИДЫ ГЛАГОЛА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ВОПРОС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УРОК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0d7bfbb42edcbbc148491e5164e3ef67"/>
          <p:cNvPicPr/>
          <p:nvPr/>
        </p:nvPicPr>
        <p:blipFill>
          <a:blip r:embed="rId1"/>
          <a:stretch/>
        </p:blipFill>
        <p:spPr>
          <a:xfrm>
            <a:off x="5148360" y="1989000"/>
            <a:ext cx="3778200" cy="4248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26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.Скольк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идов глагол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. Как различи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иды глагол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ИДЫ ГЛАГО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СОВЕРШЕННЫЙ ВИД    СОВЕРШЕННЫЙ ВИ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Что делать?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Что сделат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решать)                          (решить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0d7bfbb42edcbbc148491e5164e3ef67"/>
          <p:cNvPicPr/>
          <p:nvPr/>
        </p:nvPicPr>
        <p:blipFill>
          <a:blip r:embed="rId2"/>
          <a:stretch/>
        </p:blipFill>
        <p:spPr>
          <a:xfrm>
            <a:off x="179280" y="4292640"/>
            <a:ext cx="3888000" cy="22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740a73b396965654d5e45d53b47d4e2b"/>
          <p:cNvPicPr/>
          <p:nvPr/>
        </p:nvPicPr>
        <p:blipFill>
          <a:blip r:embed="rId3"/>
          <a:stretch/>
        </p:blipFill>
        <p:spPr>
          <a:xfrm>
            <a:off x="4859280" y="4292640"/>
            <a:ext cx="3809880" cy="22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79280" y="1773360"/>
          <a:ext cx="8929800" cy="2087280"/>
        </p:xfrm>
        <a:graphic>
          <a:graphicData uri="http://schemas.openxmlformats.org/drawingml/2006/table">
            <a:tbl>
              <a:tblPr/>
              <a:tblGrid>
                <a:gridCol w="8929800"/>
              </a:tblGrid>
              <a:tr h="20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0" y="1773360"/>
          <a:ext cx="9072720" cy="2089080"/>
        </p:xfrm>
        <a:graphic>
          <a:graphicData uri="http://schemas.openxmlformats.org/drawingml/2006/table">
            <a:tbl>
              <a:tblPr/>
              <a:tblGrid>
                <a:gridCol w="4716360"/>
                <a:gridCol w="4356360"/>
              </a:tblGrid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16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ИЗМИНУТК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Потренируемся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71640" y="1268280"/>
            <a:ext cx="6048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7:30:35Z</dcterms:created>
  <dc:creator>1</dc:creator>
  <dc:description/>
  <dc:language>en-US</dc:language>
  <cp:lastModifiedBy>1</cp:lastModifiedBy>
  <dcterms:modified xsi:type="dcterms:W3CDTF">2009-04-15T20:08:46Z</dcterms:modified>
  <cp:revision>60</cp:revision>
  <dc:subject/>
  <dc:title>Слайд 1</dc:title>
</cp:coreProperties>
</file>